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71A-DC48-4808-A4BC-E6F08D9E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70F-E0F9-488E-876D-BED667C5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30E-6171-4496-8361-F673ACD6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2B8-479E-4072-B82F-C820BBF7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3E1-9C20-4DBC-81D7-0155C73B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49C-1538-417F-B6EF-52E0CF93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76F-8D1F-4375-BE5F-1A37D5AA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216-5EC2-4CDB-90DF-57E1E619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19C-1DA1-4751-B11E-81176E9B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0A6-875F-424A-A93A-296CF6FC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048-1351-4296-A7DC-5043A09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A08-6A10-46F6-AC67-B46D0038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CD91-62E5-4FD1-BFAA-C7868639A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81200" y="907920"/>
            <a:ext cx="6562800" cy="469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lothes 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d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lements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09640" y="92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4752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neckla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36560" y="-525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5111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sunglass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528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35160" y="1773360"/>
            <a:ext cx="28958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earring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77640" y="92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handba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9280" y="-525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481040"/>
            <a:ext cx="76197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ke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5832720" cy="583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36560" y="190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2360" y="3333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6880" y="260280"/>
            <a:ext cx="428328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glov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93640" y="921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Platform boo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09640" y="235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wall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64920" y="235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95400" y="752400"/>
            <a:ext cx="53532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pur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9800" y="2602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95400" y="752400"/>
            <a:ext cx="53532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ring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1" lang="es-ES" sz="9600" spc="-1" strike="noStrike">
                <a:solidFill>
                  <a:srgbClr val="000000"/>
                </a:solidFill>
                <a:latin typeface="Comic Sans MS"/>
              </a:rPr>
              <a:t>bel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9280" y="19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90800" y="1676520"/>
            <a:ext cx="5162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Mini-ski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93640" y="9216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89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t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90600" y="1438200"/>
            <a:ext cx="4762800" cy="3981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720" y="2602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Bow-t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824720" cy="482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9800" y="3333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bracel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5440" y="476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95400" y="752400"/>
            <a:ext cx="53532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scar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3640" y="-525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33720" y="752400"/>
            <a:ext cx="48765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9600"/>
            </a:br>
            <a:br>
              <a:rPr sz="9600"/>
            </a:br>
            <a:r>
              <a:rPr b="0" lang="es-ES" sz="9600" spc="-1" strike="noStrike">
                <a:solidFill>
                  <a:srgbClr val="000000"/>
                </a:solidFill>
                <a:latin typeface="Comic Sans MS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7:47:56Z</dcterms:created>
  <dc:creator>I.E.S. FEDERICO GARCIA LORCA</dc:creator>
  <dc:description/>
  <dc:language>en-US</dc:language>
  <cp:lastModifiedBy>PROFESOR</cp:lastModifiedBy>
  <dcterms:modified xsi:type="dcterms:W3CDTF">2010-04-07T10:50:54Z</dcterms:modified>
  <cp:revision>3</cp:revision>
  <dc:subject/>
  <dc:title>Diapositiva 1</dc:title>
</cp:coreProperties>
</file>